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tartingabusinessinireland.com/" TargetMode="External"/><Relationship Id="rId2" Type="http://schemas.openxmlformats.org/officeDocument/2006/relationships/hyperlink" Target="http://www.startup.ie/" TargetMode="External"/><Relationship Id="rId3" Type="http://schemas.openxmlformats.org/officeDocument/2006/relationships/hyperlink" Target="http://www.kerrysoft.ie/" TargetMode="External"/><Relationship Id="rId4" Type="http://schemas.openxmlformats.org/officeDocument/2006/relationships/hyperlink" Target="http://www.kerryceb.ie/" TargetMode="External"/><Relationship Id="rId5" Type="http://schemas.openxmlformats.org/officeDocument/2006/relationships/hyperlink" Target="http://www.shannondev.ie/" TargetMode="External"/><Relationship Id="rId6" Type="http://schemas.openxmlformats.org/officeDocument/2006/relationships/hyperlink" Target="http://www.enterprise-ireland.com/" TargetMode="External"/><Relationship Id="rId7" Type="http://schemas.openxmlformats.org/officeDocument/2006/relationships/hyperlink" Target="http://www.spotcheckonline.com/" TargetMode="External"/><Relationship Id="rId8" Type="http://schemas.openxmlformats.org/officeDocument/2006/relationships/hyperlink" Target="http://www.patentsoffice.ie/" TargetMode="External"/><Relationship Id="rId9" Type="http://schemas.openxmlformats.org/officeDocument/2006/relationships/hyperlink" Target="http://www.entemp.ie/" TargetMode="External"/><Relationship Id="rId10" Type="http://schemas.openxmlformats.org/officeDocument/2006/relationships/hyperlink" Target="http://www.cro.ie/" TargetMode="External"/><Relationship Id="rId11" Type="http://schemas.openxmlformats.org/officeDocument/2006/relationships/hyperlink" Target="http://www.sfa.ie/" TargetMode="External"/><Relationship Id="rId12" Type="http://schemas.openxmlformats.org/officeDocument/2006/relationships/hyperlink" Target="http://www.entrepreneurs.about.com/" TargetMode="External"/><Relationship Id="rId13" Type="http://schemas.openxmlformats.org/officeDocument/2006/relationships/hyperlink" Target="http://www.isme.ie/" TargetMode="External"/><Relationship Id="rId1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asis.ie/" TargetMode="External"/><Relationship Id="rId2" Type="http://schemas.openxmlformats.org/officeDocument/2006/relationships/hyperlink" Target="http://www.smallbusinessportal.co.uk/" TargetMode="External"/><Relationship Id="rId3" Type="http://schemas.openxmlformats.org/officeDocument/2006/relationships/hyperlink" Target="http://www.entrepreneur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 Entreprene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Motives for Irish Start-ups </a:t>
            </a:r>
            <a:r>
              <a:rPr b="1" lang="en-GB" sz="1600" spc="-1" strike="noStrike">
                <a:solidFill>
                  <a:srgbClr val="000000"/>
                </a:solidFill>
                <a:latin typeface="Arial Black"/>
              </a:rPr>
              <a:t>(Birdthistle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re for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exploit a gap in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in thei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, redunda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Reasons for Entrepreneurial Succ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work and long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ion, drive, enthusiasm and belief in the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satisfied market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rial compe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 contro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fficient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Hurdles in starting up a a 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the right business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icated regulatory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 financi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cou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right founding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debt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-how-def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Hurdles in starting up a a 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contact clients/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ar of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by family and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entrepreneur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ome Successful Kerry Entrepreneu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rry Kenn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n Scro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mund H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an McCa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O’S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ke Fitzgera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urice O’Donogh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n K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oh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an Be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ome Successful Irish Entrepreneu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llian Bow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ry Good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s O’B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draig O’Ceid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O’Le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ya Do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um O’Sullivan and Cullen 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a Ha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3880" y="549360"/>
            <a:ext cx="70106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you the ‘fire in your belly’? – Not indigestion but –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ion;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pt;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ef; in your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you the guts to take the rough with the smooth? – Sure rough times – but accept it and move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entrepreneur – work is fu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some fun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Black"/>
              </a:rPr>
              <a:t>Websites of Interest to Entrepreneurship in Kerry and Irel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404640"/>
            <a:ext cx="7792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artingabusinessinireland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tartup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errysoft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kerryceb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nnondev.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nterprise-ireland.c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spotcheckonline.c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patentsoffice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entemp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cro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sfa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entrepreneurs.abou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isme.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63272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Black"/>
              </a:rPr>
              <a:t>Websites of Interest to Entrepreneurship in Kerry and Irel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asis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mallbusinessportal.co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ntrepreneu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niftybusinesside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planwar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b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bpla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5120" y="1773360"/>
            <a:ext cx="38098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www.aib.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www.bankofireland.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www.ulsterbank.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www.deloitte.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www.firsttuesday.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ww.enterprisenetwork.co.uk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ttp://www.business2000.ie/index.a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Definition of Entrepreneu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trepreneur, by definition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hifts resourc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areas of low productivity and yield to areas of higher productivity and yield.  Of course, there is a risk the entrepreneur may not succeed”.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ucker, ’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Entrepreneurship Vs Manag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something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product, new method of production, new markets, new source of raw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s the ‘nor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wardship of existing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Why become an Entrepreneur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al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repreneur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re for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exploit a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Characteristics of an Entrepreneu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62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ivor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ility to bounce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10040" y="1904760"/>
            <a:ext cx="3262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-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ov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 orien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t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Psychological Characteristics of Entrepreneu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us of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-taking Prosp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lerance for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e A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tient, time urgency, driving ambition,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for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What is the Role of the Entrepreneur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es, financial and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t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its/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Profile of Irish Entrepreneu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 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ion an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tment to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kills &amp; Competencies</a:t>
            </a:r>
            <a:br>
              <a:rPr sz="2400"/>
            </a:br>
            <a:r>
              <a:rPr b="1" lang="en-GB" sz="1600" spc="-1" strike="noStrike">
                <a:solidFill>
                  <a:srgbClr val="000000"/>
                </a:solidFill>
                <a:latin typeface="Arial Black"/>
              </a:rPr>
              <a:t>(Birdthistle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.…Commun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....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Represent my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Co-ordinate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Develop alternative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Hand tasks over to a 3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Co-operate with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Negot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 ….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Organise and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Handl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 can…. Handle technical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y literacy is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y interaction with people is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5:34:28Z</dcterms:created>
  <dc:creator>Breda O'Dwyer</dc:creator>
  <dc:description/>
  <dc:language>en-US</dc:language>
  <cp:lastModifiedBy>Dominic A. Moriarty</cp:lastModifiedBy>
  <dcterms:modified xsi:type="dcterms:W3CDTF">2007-09-06T16:21:33Z</dcterms:modified>
  <cp:revision>18</cp:revision>
  <dc:subject/>
  <dc:title>The Entrepreneur</dc:title>
</cp:coreProperties>
</file>