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717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717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90080"/>
            <a:ext cx="6648480" cy="68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717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9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717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9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080"/>
            <a:ext cx="6648480" cy="68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629400" y="5943600"/>
            <a:ext cx="2054160" cy="53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629400" y="5943600"/>
            <a:ext cx="2054160" cy="534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547640" y="249192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7640" y="249192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Arial Black"/>
              </a:rPr>
              <a:t>The Business P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Business Plan Structu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Financial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stimates the set up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stimates the operationa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recast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etermines the breakeven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etermines the payback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roduces a cash flow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stimates the return on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dentifies sources of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Business Plan Structu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escribes risk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iscusses risk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iscuss disaster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Business Plan Structu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xecutive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troduction and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oject Out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wnership, Management and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arket and Marketing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unding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etailed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t is a study which identifies the business, the product, the market, the business feasibility and it financial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What does it need to confirm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an the product be produc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s there a market for the produ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ill the investors make a return on their invest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Applications of the Business Pla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aise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rces an objective view of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utlines a plan of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rovides a framework for future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stils confidence in team of small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dentifies th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acilitates communication about the business to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Business Plan Structu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Executive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verview of the new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utlines the type of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dentifies th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utlines the business potential and sales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stimates a profit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stimates how much money needs to be ra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alculates the return on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ssess the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Business Plan Structu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Business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escribes the product or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dentifies the unique selling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ovides a summary of competito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utlines the life of the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pplication for patent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Business Plan Structu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rganisational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esent the structure of the 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dentifies the employee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clude employee CVs and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dentifies the Strengths and weak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dentifies stock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Business Plan Structu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Sales and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utlines the customers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stimates the size of th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dentifies market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dentifies and examines the compet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etails the marketing mix – product, price, place, promotion, physical evidence, process and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Business Plan Structu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Manufacturing and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escribes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ists equipment and manufacturing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utlines build-method and feasibility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ist sup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escribes warehousing and stock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utlines logistics system- transportation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08:16:19Z</dcterms:created>
  <dc:creator>test</dc:creator>
  <dc:description/>
  <dc:language>en-US</dc:language>
  <cp:lastModifiedBy>Dominic A. Moriarty</cp:lastModifiedBy>
  <dcterms:modified xsi:type="dcterms:W3CDTF">2007-09-06T16:27:57Z</dcterms:modified>
  <cp:revision>8</cp:revision>
  <dc:subject/>
  <dc:title>The Business Plan</dc:title>
</cp:coreProperties>
</file>