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 Black"/>
              </a:rPr>
              <a:t>Team Develop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erformance Management Practic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cus on each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vide immediat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view performance on a frequent and agreed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llow-throug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ffer 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vide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crease staff reten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Employee Legisl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ritten contr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inimum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Equal pay for equal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otection against discri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ater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rade Union memb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Minimum notice on termination of em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otection of unfair dismiss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rotection against redunda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art-time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Key Driver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cruitment and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raining and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uilding a strong employee involvement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veloping a performance managemen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mployee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The Recruitment Pro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tep 1: Role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tep 2: Candidate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tep 3: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Step 4: Establishing a performance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500" spc="-1" strike="noStrike">
                <a:solidFill>
                  <a:srgbClr val="000000"/>
                </a:solidFill>
                <a:latin typeface="Arial"/>
              </a:rPr>
              <a:t>(Cooney&amp;Hill, 200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Role Profiling  .. Need to clarif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hy is the role neede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ow will the role interact with other rol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What are the main tas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Types of interaction within the ro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y special qualifications required for the ro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Standards expected of the ro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y personal characteristics the would not suit the ro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Any distinctive personalities for the rol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How will the role develo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andidate Attrac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to advertise the posi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to word the advertis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hould the company use an employment ag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s the cost of the agency and/or advertise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will the candidate app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election Proc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an interview check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k open ende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k unconven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nd out what is important to the candi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volve other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eck references  (Immink &amp;O’Kane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 Black"/>
              </a:rPr>
              <a:t>Establishing the Job Contract .. Need to consider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Job title and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rmal hours of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quired notice of resig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rievance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ything specific to the company and/or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taff Train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eneral type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pecific types o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to identify need for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o will do the trai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will it take pl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of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to evaluate train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Building an employee cultu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sure all employees understand the mission of the business and value their pers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ad by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ctively encourage team building and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09:06:29Z</dcterms:created>
  <dc:creator>test</dc:creator>
  <dc:description/>
  <dc:language>en-US</dc:language>
  <cp:lastModifiedBy>Dominic A. Moriarty</cp:lastModifiedBy>
  <dcterms:modified xsi:type="dcterms:W3CDTF">2007-09-06T16:27:09Z</dcterms:modified>
  <cp:revision>7</cp:revision>
  <dc:subject/>
  <dc:title>Team Development</dc:title>
</cp:coreProperties>
</file>