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 Black"/>
              </a:rPr>
              <a:t>Operating Fin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Black"/>
              </a:rPr>
              <a:t>Financial Stat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ypes of State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sh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fit &amp;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ak Eve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itial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rces of Funding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 Black"/>
              </a:rPr>
              <a:t>Cash Flow Stat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Managing Small Business Accou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sh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records income when cash is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records expenses when payment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at about cre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les recorded as sale made or items 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nses recorded when order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1904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Cashflow Foreca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333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ives a monthly snap shot of the amount of money coming in and going out of the company’s bank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 the positive or negative cash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23880" y="188640"/>
            <a:ext cx="701064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pening Balance              Jan   Feb  March Apr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st of 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ting, Lighting, W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.,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fessional F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nk Char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losing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Notes to Cash Foreca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ing Balance for each month to be brought forward amount from the previous month’s closing bal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les may be up front, payment with purchase or 1, 2 or 3 months after sale – depends on type of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e rent usually one month in adv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ting, Lighting and water usually give one month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lephone, Internet usually one month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fessional Fees usually two months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nk charges and credit cards usually one month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Notes to Cash Forecas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ges and salaries usually same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terial costs – varies but usually one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ipment – varies – 1, 2 or 3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port costs – varies – up front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Stocking / Destock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cking – Gearing up of materials and stock to supply increasing sales (may take a few months before positive effect reali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stocking – Winding down of stock as sales reduce (effect seen immediat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Information required for cash flow forecas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y to get for some expenses e.g. insurance, selling, administrativ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wner/manager source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e Jour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 seasona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oid Estimating  - aim for factual information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Need to know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ening the bank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ax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Profit &amp; Loss Accou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s (volumes or val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of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xed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riabl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259920"/>
            <a:ext cx="7010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usines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 &amp; Loss Ac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ear 1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ear 2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ear 3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ea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st of 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ss Pro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ross Profit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ver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m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ling and 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l Exp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Over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t Profit/ (Lo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x on profit / (Lo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it retained for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Break-even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s Price: Can this be increa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s Volume: Can this be increas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of sales: Can this be reduc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heads: Can this be reduc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Break-even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ry, salaries, rent,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ur, materials and variable overh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Break-even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ibution per unit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ome per unit sales-variable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eakeven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qu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ixed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ibution per unit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nap shot of the balance between the company’s assets and the company’s liabilities on any particular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xed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ital items not yet pai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 cash in hand, actual amounts owed (debtors), Stock-in-hand (Unpaid stock as liability under credi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holders capital –amount invested in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ained earnings – profit or loss as reco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rm Liabili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ns not due for repayment in this curren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Balance Shee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ent 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nk overdraft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x pay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547640" y="188640"/>
            <a:ext cx="701064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     2006     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LANCE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xed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, Machinery, Veh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FIXED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URRENT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holders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ained Ear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i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rrent Liab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nk Overd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Pay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d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LI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23880" y="188640"/>
            <a:ext cx="701064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900" spc="-1" strike="noStrike" u="sng">
                <a:solidFill>
                  <a:srgbClr val="000000"/>
                </a:solidFill>
                <a:uFillTx/>
                <a:latin typeface="Arial"/>
              </a:rPr>
              <a:t>Initial Investment Sum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€                 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Fixed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nov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ixture &amp; Fitt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chines and equi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oodwill, security depos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otal Fixed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2. Current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ock of raw mater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ock of finished goo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ork in progr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b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otal Current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3. Liquid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as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otal Liquid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4. Start-up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epaid expen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romotion, open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otal Start-up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Margin for unforeseen cos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Opening a Bank Accou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mplete a bank mandat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uthorised sign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py of Memorandum and Articles of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ertificate of In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ame of the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523880" y="259920"/>
            <a:ext cx="70106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 u="sng">
                <a:solidFill>
                  <a:srgbClr val="000000"/>
                </a:solidFill>
                <a:uFillTx/>
                <a:latin typeface="Arial"/>
              </a:rPr>
              <a:t>Investment : Sources of Fun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ersonal As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xed as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dditional private mortg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ferred loans (famil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tal person asse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roduc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ternal equity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ternal Debt (Long term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rtgag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an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asing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xternal Debt (Short term)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verdraft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ppliers' credit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yments received in advance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ubsidies/Grant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re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ency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prise Boar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Y/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roject Accou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reaks down the work into different pack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ach package can be assigned to a department or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usiness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hort term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ng term 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easibility of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roject Accou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abour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curement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ime rel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ni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stimating fac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roject Accou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ources of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v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ate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enture 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Business Plan should help answer following questions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are yo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your product or serv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are your custom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y will your customers buy my product or serv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price will your customers pay for your product or serv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Business Plan should help answer following questions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this price, how many products/services will your customers bu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products/services can you m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uch does it cost to make/deliver each unit of product/serv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uch start-up investment does the business n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is a viable busin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Tax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come Tax – Sole Traders and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rporation Tax – Limited Companies on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Value Added Tax – All Businesses in excess of certain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AYE/PRSI – Employe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Calculating Taxable Profi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axable profits are calculated by deducting allowable business expenses from turnover.  These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urchase of goods for re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ages, rent, rates, repairs, lighting, he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unning costs of vehicles or machinery used in the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countancy and audit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est paid on any monies borrowed to finance business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ease payments on vehicles or machinery for 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AYE/PRSI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erates on the basis that an employer deducts tax at a specified rate from an employee’s p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ust register for PRSI/PA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ed to make payments and returns to Collector-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VALUE ADDED TAX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axable Per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ates of 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gister for 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turns to the Collector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NEED TO KEEP…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formation for Revenue Aud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cord of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Quality Credi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rrect financial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ding Account, P&amp;L Account, Capital Account, Balance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inancial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Insuranc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usiness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urglary/th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l r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ublic 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duct 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mployer’s 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otor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43:44Z</dcterms:created>
  <dc:creator>test</dc:creator>
  <dc:description/>
  <dc:language>en-US</dc:language>
  <cp:lastModifiedBy>Dominic A. Moriarty</cp:lastModifiedBy>
  <dcterms:modified xsi:type="dcterms:W3CDTF">2007-09-06T16:26:36Z</dcterms:modified>
  <cp:revision>10</cp:revision>
  <dc:subject/>
  <dc:title>Operating Finance</dc:title>
</cp:coreProperties>
</file>