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717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717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3880" y="190080"/>
            <a:ext cx="6648480" cy="68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717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99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2388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717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99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080"/>
            <a:ext cx="6648480" cy="68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28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629400" y="5943600"/>
            <a:ext cx="2054160" cy="53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28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629400" y="5943600"/>
            <a:ext cx="2054160" cy="534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547640" y="249192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cnielsen.com/" TargetMode="External"/><Relationship Id="rId2" Type="http://schemas.openxmlformats.org/officeDocument/2006/relationships/hyperlink" Target="http://www.ama.org/" TargetMode="External"/><Relationship Id="rId3" Type="http://schemas.openxmlformats.org/officeDocument/2006/relationships/hyperlink" Target="http://www.chambersireland.ie/" TargetMode="External"/><Relationship Id="rId4" Type="http://schemas.openxmlformats.org/officeDocument/2006/relationships/hyperlink" Target="http://www.cso.ie/" TargetMode="External"/><Relationship Id="rId5" Type="http://schemas.openxmlformats.org/officeDocument/2006/relationships/hyperlink" Target="http://www.dejanews.com/" TargetMode="External"/><Relationship Id="rId6" Type="http://schemas.openxmlformats.org/officeDocument/2006/relationships/hyperlink" Target="http://www.dnd.com/" TargetMode="External"/><Relationship Id="rId7" Type="http://schemas.openxmlformats.org/officeDocument/2006/relationships/hyperlink" Target="http://www.espmar.nl/" TargetMode="External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600" y="216540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Marketing Research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Reporting and Research Finding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e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e for the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il Conf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Characteristics of Effective Document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hould include all the information the readers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tructured to allow readers to find information ea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riting should be as concise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ink about the subject when writing th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lways acknowledge other people’s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Steps for writ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Generate ideas to include in th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rganise the ideas using some initial out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rite a dr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vise the draft as often a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omprehension, accuracy, spelling, organisation, style, paraphrasing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Improve Writ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ovide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Use informative titles and hea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Use lists to communicate paralle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Use introduction to indicate what is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Use conclusions to complete discu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Improve Writ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rite Better Paragrap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egin with clear topic 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upport the topic sentence log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mphasise the coherence of the paragra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Keep paragraphs to a manageable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Improve Writ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rite Better Sent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Use the active and passive voices appropri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Use appropriate t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oose appropriate sentence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Use modifying elements effecti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Improve Writ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oose the right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oose simple, clear words and phr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place fancy words and phrases with plain words and phr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ink about your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Creating and Integrating Graphic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ake the graphic self-su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etermine whether you need the 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etermine what kind of graphic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etermine where to put the graph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ie the graphic to th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Improving Page Desig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Leave adequate marg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Use appropriate line spa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Use appropriate jus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Use easy-to-read fo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Use different members of a single type fam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Use type size appropri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Use upper and lower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Design titles and headings for emphasis and c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Design lists for c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Include page numbers on all p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Some Tip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ow Why you are doing the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ep it 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 careful of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ild the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ok for the obv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 conf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880560"/>
            <a:ext cx="664848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rketing Researc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the systematic design, collection, interpretation and reporting of information to help marketers solve specific marketing problems/take advantage of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Some Useful Websit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acnielse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am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chambersireland.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cso.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dejanew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dnd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espmar.n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ww.gallup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ww.googl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Some Useful Websit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ww.marketresearch.org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ww.mintel.co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ww.mra-ne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ww.nua.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ww.qrc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ww.sps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ww.surveys-onlin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ww.worldopinio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Types of Marketing Research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ntitative research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earch aimed at producing statistical data and numerical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Qualitative research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 which is too expensive /difficult to quantify such as subjective opinions, value judg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1000" y="259920"/>
            <a:ext cx="71913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The Market Research Process (O’Kane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esk research – Look up exiting research in books, journals, web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e- Study Field research – Test to see if correct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oncept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esting the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Field Research – Ask th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 Black"/>
              </a:rPr>
              <a:t>Techniques for data collection on the fiel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Focus Group (Group Discu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Questionnaire – by post, person, telephone, 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ne-to-one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Primary Data </a:t>
            </a:r>
            <a:r>
              <a:rPr b="1" lang="en-GB" sz="1400" spc="-1" strike="noStrike">
                <a:solidFill>
                  <a:srgbClr val="000000"/>
                </a:solidFill>
                <a:latin typeface="Arial Black"/>
              </a:rPr>
              <a:t>cont.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2590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s in Questionnaire Desig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ear Research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cide on Question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cide on Response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12920" y="1904760"/>
            <a:ext cx="32590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cide on question wo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cide on question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cide on physical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lot Test and Final D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 Black"/>
              </a:rPr>
              <a:t>Types of Quest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losed-ended questions- question requiring a yes/no ans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pen-ended questions – require a descriptive answer – may offer an opinion or suggestion or give fur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xpla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ultiple Choice questions – Question allows more answers. The individual is give a list of answers to choose from as given  in the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 Black"/>
              </a:rPr>
              <a:t>Physical Appearance of questionnai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812000" cy="43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ake it appear as short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rofessional Lo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oid temptation to crowd questions to-gether to make it look 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ow plenty of space for open ended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rections and instructions should be placed close to the relevant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mber the questions sequenti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nd time phrasing th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 Black"/>
              </a:rPr>
              <a:t>Pre test the questionnair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 pre test should always be condu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t should be conducted using the same survey mode as the actual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o set answer as to how many respondents should be included in the pre-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ode and tabulate the pre-test where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7T18:02:19Z</dcterms:created>
  <dc:creator>default</dc:creator>
  <dc:description/>
  <dc:language>en-US</dc:language>
  <cp:lastModifiedBy>Dominic A. Moriarty</cp:lastModifiedBy>
  <dcterms:modified xsi:type="dcterms:W3CDTF">2007-09-06T16:24:22Z</dcterms:modified>
  <cp:revision>12</cp:revision>
  <dc:subject/>
  <dc:title>Marketing Research and Information Systems</dc:title>
</cp:coreProperties>
</file>