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 Black"/>
              </a:rPr>
              <a:t>Legal Structures of a New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Sole Trad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asy to se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inimal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ersonally respon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inancial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cision-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gistrar of Business Names at the Companies Registratio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artnership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hared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y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artnership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sponsibilities, profit share, voting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Limited Compan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ules of company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gal and fiscal f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nancial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wnership is transferable by share ow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irectors are respo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btaining cr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Co-operativ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eam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ointly ow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mocratically 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-operative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Which  Structur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Kind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ttitude to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ax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unding/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Registering a Busin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ame sh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y to remember, pronounce, sp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mage cr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gister with compan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Registration does not giv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tection against duplication of th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utomatic approval of name as a busine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uthorise the use of the name as may be prohibited for other reasons – may affect someone else’s trade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3:17:47Z</dcterms:created>
  <dc:creator>richardson</dc:creator>
  <dc:description/>
  <dc:language>en-US</dc:language>
  <cp:lastModifiedBy>test</cp:lastModifiedBy>
  <cp:lastPrinted>2000-01-25T14:57:52Z</cp:lastPrinted>
  <dcterms:modified xsi:type="dcterms:W3CDTF">2007-07-12T09:27:42Z</dcterms:modified>
  <cp:revision>12</cp:revision>
  <dc:subject/>
  <dc:title>MARKETING</dc:title>
</cp:coreProperties>
</file>