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717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717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3880" y="190080"/>
            <a:ext cx="6648480" cy="68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717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99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2388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717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99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080"/>
            <a:ext cx="6648480" cy="68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629400" y="5943600"/>
            <a:ext cx="2054160" cy="53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629400" y="5943600"/>
            <a:ext cx="2054160" cy="534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547640" y="249192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izplus.ie/" TargetMode="External"/><Relationship Id="rId2" Type="http://schemas.openxmlformats.org/officeDocument/2006/relationships/hyperlink" Target="http://www.circle-of-excellence.com/" TargetMode="External"/><Relationship Id="rId3" Type="http://schemas.openxmlformats.org/officeDocument/2006/relationships/hyperlink" Target="http://www.cocd.be/eng/index.htm" TargetMode="External"/><Relationship Id="rId4" Type="http://schemas.openxmlformats.org/officeDocument/2006/relationships/hyperlink" Target="http://www.entrepreneur.com/" TargetMode="External"/><Relationship Id="rId5" Type="http://schemas.openxmlformats.org/officeDocument/2006/relationships/hyperlink" Target="http://www.irc.net.lu/" TargetMode="External"/><Relationship Id="rId6" Type="http://schemas.openxmlformats.org/officeDocument/2006/relationships/hyperlink" Target="http://www.niftybusinessideas.com/" TargetMode="External"/><Relationship Id="rId7" Type="http://schemas.openxmlformats.org/officeDocument/2006/relationships/hyperlink" Target="http://www.planware.org/" TargetMode="External"/><Relationship Id="rId8" Type="http://schemas.openxmlformats.org/officeDocument/2006/relationships/hyperlink" Target="http://www.powerhomebiz.com/" TargetMode="External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reland.franchiseopportunities.com/" TargetMode="External"/><Relationship Id="rId2" Type="http://schemas.openxmlformats.org/officeDocument/2006/relationships/hyperlink" Target="http://ireland.franchiseopportunities.com/" TargetMode="External"/><Relationship Id="rId3" Type="http://schemas.openxmlformats.org/officeDocument/2006/relationships/hyperlink" Target="http://ireland.franchiseopportunities.com/" TargetMode="External"/><Relationship Id="rId4" Type="http://schemas.openxmlformats.org/officeDocument/2006/relationships/hyperlink" Target="http://www.irishfranchiseassociation.com/" TargetMode="External"/><Relationship Id="rId5" Type="http://schemas.openxmlformats.org/officeDocument/2006/relationships/hyperlink" Target="http://www.irishfranchiseassociation.com/" TargetMode="External"/><Relationship Id="rId6" Type="http://schemas.openxmlformats.org/officeDocument/2006/relationships/hyperlink" Target="http://www.irishfranchiseassociation.com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dea Gene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ther people see things and say ‘Why?’ …. But I dream things that never were and say ‘Why not?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George Bernard Sha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Black"/>
              </a:rPr>
              <a:t>Assessing a Good Idea – Questions to ask (O’Kane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y is it a good id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at are the assum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at type of customer will buy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ist four ideas why the idea will NO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ist four ideas why it will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at are the differen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Key Issu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sibility of the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tability of the idea to the circumstances of the potential entrepren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ransforming Ideas into Realisable  Opportuniti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and 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ing with the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, test and rev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nessing competencies and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Black"/>
              </a:rPr>
              <a:t>Useful Websit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Entrepreneurs.about.com/cs/id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Entrepreneurs.about.com/library/weekly/199/aa092799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bizplus.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www,businesscreativitynetwork.org.uk/tool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ircle-of-excellenc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ocd.be/eng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entrepreneur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irc.net.l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niftybusinessidea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planware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powerhomebiz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www.work-at-home-index.net/limks/telecommuniting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Black"/>
              </a:rPr>
              <a:t>Useful Websit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reland.franchiseopportunities.com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irishfranchiseassociation.com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irishfranchisemagazine.net/?ck=1&amp;s=4ecbefb5514aa1997c7a043483400f5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ww.ideacaf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Black"/>
              </a:rPr>
              <a:t>Attributes of the Creative Pers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nness to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servance – seeing things diffe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rio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sonal free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llingness to take calculated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f re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eedom from fear of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re for recog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Managing Creativity- Inhibi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reauc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tion and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or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nalties for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ght dead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uthority over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lues which inhi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Managing Creativity- Foster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en organisational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dom to 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lture of new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egate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rculate success s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powe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Creative Organisa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ing a 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person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aising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a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lict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epting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ources of Ideas………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h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Licen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echniques for generating idea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lines for idea generating 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facili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echniques for generating idea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tribute Li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o, what, where, when, why, 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ssumption Smas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iscontin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creening ideas for opportunities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‘Gut Feeling’ is not good enough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Solid Market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ito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Conditions and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t Mar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nue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12:14:19Z</dcterms:created>
  <dc:creator>itt</dc:creator>
  <dc:description/>
  <dc:language>en-US</dc:language>
  <cp:lastModifiedBy>Dominic A. Moriarty</cp:lastModifiedBy>
  <dcterms:modified xsi:type="dcterms:W3CDTF">2007-09-06T16:23:42Z</dcterms:modified>
  <cp:revision>10</cp:revision>
  <dc:subject/>
  <dc:title>Idea Generation</dc:title>
</cp:coreProperties>
</file>