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CAMERA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717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9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88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717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9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523880" y="190080"/>
            <a:ext cx="6648480" cy="68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7717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9920" y="190476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2388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7717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9920" y="3979440"/>
            <a:ext cx="214056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3880" y="190080"/>
            <a:ext cx="6648480" cy="683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30920" y="397944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0920" y="1904760"/>
            <a:ext cx="324432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880" y="3979440"/>
            <a:ext cx="6648480" cy="18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6629400" y="5943600"/>
            <a:ext cx="2054160" cy="53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284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6629400" y="5943600"/>
            <a:ext cx="2054160" cy="534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title"/>
          </p:nvPr>
        </p:nvSpPr>
        <p:spPr>
          <a:xfrm>
            <a:off x="1547640" y="2491920"/>
            <a:ext cx="64771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87896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Black"/>
              </a:rPr>
              <a:t>DEVELOPING A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Role of A Stakeholder Analysi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collect data on how all the different individuals and organisations interact with the environs of the organis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analyse this data and identify the relationships that must be taken into account when compiling the Management Pla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Role of A Stakeholder Analysi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present and disseminate this analysis in an easy to understand repor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provide the major stakeholder groups with a clear understanding of the importance of the core function of the organisation, and their role in its succ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o provide the first step for future stakeholder participation in the management of the busines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Customer Analysi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o are th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ere are they loc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ow do they spend their mone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ere do they socialis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social class do they belong 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printed media do they re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Customer Analysi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radio station do they listen 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kind of television programmes do they watc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and who are their influenc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ow do they form their opin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is important about your product for the custom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Need to know ……………..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whom can we s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can we s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what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what quant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image do you want your business to hav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ow does this link to your custom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ow will this be reflected in your pricing and promotional strate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ow will this be reflected in your product design and distribution strateg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Questions to Ask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are our competitor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threats do they pos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is the profile of our competito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objectives of our competito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Competitor Analysi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strategies are our competitors pursuing and how successful are these strategi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are the strengths and weaknesses of our competito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 are our competitors likely to respond to any changes to the way we do busines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at range of products do they off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The Four P’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ce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o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202280" y="2701800"/>
            <a:ext cx="733320" cy="145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P's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Product Description (O’Kane)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escribe th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escribe the core function of th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escribe the added features of th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choices do you offer your custom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extras are offered to the custome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Mission State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reason for the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the business stands f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it is abou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Pricing Decis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ed to k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is the competitor charg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is the customer willing to pay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are the fixed and variable production cos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margins are expected by the busines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Distribution Decision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Need to know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will be the preferred distribution system – direct or indirect or a combination of both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y is this preferr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at system is use by the competito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re there any weaknesses in the proposed distribution syst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an they be correc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Promotion Decis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31640" y="1844640"/>
            <a:ext cx="701028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Five Aims of Promotio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ategory Need: Consumers’ perception of his need for a product in a certain categ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nd Awareness: Distinguishing one manufacturer’s brand from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rand Attitude: A consumer’s perception of a brand, formed by emotions and logic or cognitive belief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rand Purchase intention: The consumer’s decision and efforts to purchase a particular br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chase Facilitation: Availability, location, price and familiarity of vendor – making it easy to purchase the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ADVERTISING USE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23520" y="1904760"/>
            <a:ext cx="32590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romote products, organisations,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timulate primary and selective de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Offset competitors’ advertis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id sales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912920" y="1904760"/>
            <a:ext cx="32590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5.Educate th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6.Increase uses of a produ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7. Remind and rein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8. Reduce sales fluctu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 Black"/>
              </a:rPr>
              <a:t>Developing an Advertising Campaign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1981080"/>
            <a:ext cx="129528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Ident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nalyz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tar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90920" y="2057400"/>
            <a:ext cx="13716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ef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419720" y="2209680"/>
            <a:ext cx="114300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lat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24480" y="1981080"/>
            <a:ext cx="160020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eterm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114800"/>
            <a:ext cx="11430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Devel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ed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495680" y="4191120"/>
            <a:ext cx="152424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re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dverti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590920" y="4419720"/>
            <a:ext cx="137160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xec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campa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62120" y="4191120"/>
            <a:ext cx="167616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valua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Advertis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Times New Roman"/>
              </a:rPr>
              <a:t>effective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8680" y="25909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086600" y="327672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6019920" y="47242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396252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514600" y="4800600"/>
            <a:ext cx="76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907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Advertising Campaig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1. Define Advertising Objectiv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ould be clear, precise and measur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. Create the Advertising Platform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basic issues or selling points that an advertiser wishes to include in the advertising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3. Determining the Budge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bjective and task; % of Sales; Meet Competitors; Arbitrary 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Advertising Campaig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23880" y="1557360"/>
            <a:ext cx="701064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Developing the Media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vehicles to use, dates and ti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ach: % of consumers actually exposed to a particular advertisement in a stated time peri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requency: The number of times targeted consumers are exposed to a particular advertis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st Comparison indic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Advertising Campaig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9640" y="1557360"/>
            <a:ext cx="76345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reating the Advertising Mess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Regional Issues: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Different advertising and editorial content between reg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py: Verbal portion of an adverti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IDA: A persuasive sequence used in advertisements: attention, interest, desire and 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Storyboard: shows sequence of advertising sc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rtwork; Illustration and lay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llustrations: Photographs, drawings, charts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Layout: physical arran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Advertising Campaig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xecuting the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o is involv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valuating the Effectiveness of the Adverti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-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umer focus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 campa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ognition 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ided/unaided recall te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2. Personal Sell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 use of personal communication in an exchange situation to inform customers and persuade them to purchase 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elemarketing: Direct selling over the tele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ypes of selling communic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anguag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ine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xem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act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Mission Statemen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ere are we n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here do we want to g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How and when will we get the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Personal Sell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23880" y="1196640"/>
            <a:ext cx="7010640" cy="482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lements of the Personal Selling Proce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spe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pa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pproaching  the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aking the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vercoming obj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o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llowing 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Personal Sell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ypes of Sales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der get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rder tak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issionary sales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e sales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echnical sales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Personal Sell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anagement of Salesfo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tablishing sales obj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 a group and individu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etermining Salesforc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ruiting and selecting sales perso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mpensating Sales Personnel Motiva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naging sales terri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ntrolling and evaluating salesforce perform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000" spc="-1" strike="noStrike">
                <a:solidFill>
                  <a:srgbClr val="000000"/>
                </a:solidFill>
                <a:latin typeface="Arial Black"/>
              </a:rPr>
              <a:t>3. Publicity and Public Relation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ublicity: Non-personal communication in news story form about an organisation and/or its products that is transmitted through a mass medium at no cha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Public Relations: Managing and controlling the process of using publicity effectiv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ypes include: Press releases;  Feature articles; Captioned photograph; Press Conferences; Third party endors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4. Sales Promotion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n activity or material that acts as a direct inducement by offering added value to the incentive for the product to resellers, salespeople or consu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nsumer promotions: Coupons, Demonstrations, Frequent user incentives, loyalty cards, trading stamps, POS materials, Free samples, Money refunds, Competitions etc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rade Promotions: Buy back allowance, Free merchandise, Co-operative advertising, Dealer listing, Sales Contests, Dealer load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5. Sponsorship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e financial or material support if an event, activity, person, organisation or product by an unrelated organisation or do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Reputable Partner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6. Direct Mail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 method of communication used to entice prospective customers or charitable donors to invest in products, services or worthy cau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B2C and B2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ttention seeking flashes to gain att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The pack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Copy wri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7. The Internet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A network of computer networks stretching across the world, linking computers of different 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eb 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Intra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e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Rules of a Successful Web Site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Keep it si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Make it f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Build tru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Give dire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elcome the shop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Create comm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ervice the custom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hink glob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hipping must be eas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Let the world k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400" spc="-1" strike="noStrike">
                <a:solidFill>
                  <a:srgbClr val="000000"/>
                </a:solidFill>
                <a:latin typeface="Arial"/>
              </a:rPr>
              <a:t>Marco Argenti &amp; Efrim Borit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Arial Black"/>
              </a:rPr>
              <a:t>8. Direct Marketing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171880" y="2184480"/>
            <a:ext cx="5954400" cy="36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A decision by a company’s marketers to select a marketing channel which avoids dependence on marketing channel intermediaries and to focus marketing communications activity on promotional mix ingredients which deal directly with targeted custom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Increasing due to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- Technology, - changes in market information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IE" sz="1800" spc="-1" strike="noStrike">
                <a:solidFill>
                  <a:srgbClr val="000000"/>
                </a:solidFill>
                <a:latin typeface="Arial"/>
              </a:rPr>
              <a:t>- need for better targeting, - defining effectiveness of traditional 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Arial Black"/>
              </a:rPr>
              <a:t>S.W.O.T. Analysis</a:t>
            </a: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S- Streng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W – Weak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O-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000" spc="-1" strike="noStrike">
                <a:solidFill>
                  <a:srgbClr val="000000"/>
                </a:solidFill>
                <a:latin typeface="Arial"/>
              </a:rPr>
              <a:t>T- Threa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Black"/>
              </a:rPr>
              <a:t>PESTEL Trends Analysi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i="1" lang="en-GB" sz="3000" spc="-1" strike="noStrike">
                <a:solidFill>
                  <a:srgbClr val="000000"/>
                </a:solidFill>
                <a:latin typeface="Times New Roman"/>
              </a:rPr>
              <a:t>An overall assessment of the economic, political, social, legal and technological trends will be undertaken by the SME to facilitate a greater understanding of these external factors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.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Black"/>
              </a:rPr>
              <a:t>PESTEL Trends Analysis</a:t>
            </a:r>
            <a:endParaRPr b="0" lang="en-US" sz="2000" spc="-1" strike="noStrike">
              <a:solidFill>
                <a:srgbClr val="000000"/>
              </a:solidFill>
              <a:latin typeface="Arial Black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959200" y="2638440"/>
          <a:ext cx="3778200" cy="250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59200" y="2638440"/>
                    <a:ext cx="3778200" cy="250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Industry Assessment Audit</a:t>
            </a:r>
            <a:br>
              <a:rPr sz="2000"/>
            </a:b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GB" sz="3000" spc="-1" strike="noStrike">
                <a:solidFill>
                  <a:srgbClr val="000000"/>
                </a:solidFill>
                <a:latin typeface="Arial"/>
              </a:rPr>
              <a:t>The SME undertakes an industry assessment by way of an audit that will ensure the enterprise obtains the best possible benefit from the Industry Assessment process.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Industry Assessment Audi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was the industry crea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it young or ol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was occurring at that tim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has the industry changed and develop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is it grow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3880" y="190080"/>
            <a:ext cx="6648480" cy="14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Arial Black"/>
              </a:rPr>
              <a:t>Industry Assessment Audit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3880" y="1904760"/>
            <a:ext cx="6648480" cy="39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challenges has the industry fac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the key drivers/enabl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hat are the key inhibito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w has the industry responded to these challeng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13:17:47Z</dcterms:created>
  <dc:creator>richardson</dc:creator>
  <dc:description/>
  <dc:language>en-US</dc:language>
  <cp:lastModifiedBy>Dominic A. Moriarty</cp:lastModifiedBy>
  <cp:lastPrinted>2000-01-25T14:57:52Z</cp:lastPrinted>
  <dcterms:modified xsi:type="dcterms:W3CDTF">2007-09-06T16:25:24Z</dcterms:modified>
  <cp:revision>10</cp:revision>
  <dc:subject/>
  <dc:title>MARKETING</dc:title>
</cp:coreProperties>
</file>