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664848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Black"/>
              </a:rPr>
              <a:t>Communications</a:t>
            </a:r>
            <a:br>
              <a:rPr sz="2800"/>
            </a:br>
            <a:r>
              <a:rPr b="1" lang="en-IE" sz="2800" spc="-1" strike="noStrike">
                <a:solidFill>
                  <a:srgbClr val="000000"/>
                </a:solidFill>
                <a:latin typeface="Arial Black"/>
              </a:rPr>
              <a:t>and </a:t>
            </a:r>
            <a:br>
              <a:rPr sz="2800"/>
            </a:br>
            <a:r>
              <a:rPr b="1" lang="en-IE" sz="2800" spc="-1" strike="noStrike">
                <a:solidFill>
                  <a:srgbClr val="000000"/>
                </a:solidFill>
                <a:latin typeface="Arial Black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9920"/>
            <a:ext cx="80769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s of Communication in Organizations: Interpersonal Communica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2265480"/>
            <a:ext cx="6648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 of written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ccurate and leaves a permanent recor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ex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for thought and consideratio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referenc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asy to use and can be done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prepa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9920"/>
            <a:ext cx="80769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s of Communication in Organizations: Interpersonal Communica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2265480"/>
            <a:ext cx="6648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Communication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s of written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feedback and interchange due to burde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of preparing a physical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ble delay can occur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ing message mean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9920"/>
            <a:ext cx="80769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s of Communication in Organizations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2265480"/>
            <a:ext cx="6648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the Right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tuation determines the most appropriate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communication and email is preferred for personal, non-routine, or high priority commun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written communication (e.g., memos, letters, reports, and notes) are used for messages that are impersonal, routine, and lower pri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 Black"/>
              </a:rPr>
              <a:t>Meetin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e clear about the objectives of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is its purp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e clear why you need th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st the topics to b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Infor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ke sure everyone knows exactly what is being discussed, why, and what you want from the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ticipate what people and information may be needed and make sure you bring it with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rep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pare the logical sequence of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pare the time allocation for each item depending on its importance not its ur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Structure and Contr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ake the evidence stage before the interpretation stage; and that before the action stage and stop people from loos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Summarise and Record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ummarise all decisions and record them immediately, and the name of the person responsible for the  action and dead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on and the Manager’s Job 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(Griffin, 2003)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of transmitting information from one person to anoth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of send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in such a way that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eived is as close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ing as possible to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int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90520"/>
            <a:ext cx="80769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Role of Communication in Manag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Useful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id and reliable reflection of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in time for appropriate managerial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and undistorted picture of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which meets the needs and circumstances of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Communication Proc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in the Communic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to transmit a fact, idea, opinion, or other information to the rece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meaning into a form appropriate to the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ting through the appropria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or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Communication Proc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ing the message back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 that has meaning to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” is anything disrupting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-31644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Black"/>
              </a:rPr>
              <a:t>Interpersonal Communication</a:t>
            </a:r>
            <a:endParaRPr b="0" lang="en-US" sz="19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341360"/>
          <a:ext cx="838224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3200400"/>
                <a:gridCol w="396252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344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romotes feedback and inter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344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y suffer from inaccura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Is easy to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344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Leaves no permanent rec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344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Tends to be more accu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344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nhibits feedback and ex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344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rovides a record of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4520" indent="-344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Is more difficult and time consu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90520"/>
            <a:ext cx="80769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s of Communication in Organiza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personal Communic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139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-to-face conversations, group discussions, telephone calls, and other situations in which the spoken work is used to express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 of or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prompt feedback and interchange in the for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verbal questions and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asy to use and can be d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little prepa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90520"/>
            <a:ext cx="80769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personal Communica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2215800"/>
            <a:ext cx="664848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Communication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s of or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ers from problems with inaccuracy in meaning and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no time for thought and consideration and n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record of what w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9920"/>
            <a:ext cx="80769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s of Communication in Organizations: Interpersonal Communication (cont’d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2265480"/>
            <a:ext cx="6648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s, letters, reports, notes, email, and other methods in which the written word is used to transmit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5:30:29Z</dcterms:created>
  <dc:creator>test</dc:creator>
  <dc:description/>
  <dc:language>en-US</dc:language>
  <cp:lastModifiedBy>Dominic A. Moriarty</cp:lastModifiedBy>
  <dcterms:modified xsi:type="dcterms:W3CDTF">2007-09-06T16:22:46Z</dcterms:modified>
  <cp:revision>8</cp:revision>
  <dc:subject/>
  <dc:title>Communication and the Manager’s Job</dc:title>
</cp:coreProperties>
</file>